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F7C01-3953-4276-A00E-07620725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EDC36-C811-483A-82F0-A0E86296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90B17-9623-4341-8BE4-40BBA9CF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2453D-A033-49E3-8593-9B1D9BC6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BC43C-E6FA-43AE-B8A9-0BFD5725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2EC15-41DF-4DE1-B1FD-D536107A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DD45C-ABE0-4947-A82B-DFF92645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1658B-83E9-42F4-9782-92FD2389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852C7-6208-4C1A-B871-DFBAA0A8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E35-3DD3-4BCC-8815-A2817A7A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5BE-4444-4356-82ED-B9445B9E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899-6E69-4BA6-8D0E-1011666F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0B8-0EBE-47E4-83ED-D375EAAB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F2B-15AE-4E7B-B3F9-C76D8932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0A7-9EC3-4E7F-A4A1-9A1420FC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4DC-021F-4379-A16B-02DEA08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673-F6FA-4B71-9398-C3F1EF82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CD8-32BF-4046-A8B4-908C562B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3BC-B90D-4D1B-8455-44D849FA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D6F-5B43-4EFD-AED9-78E9F139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99E-F2D7-4335-9C62-70F886C9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7C45-7025-404B-8117-A38CDC04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9581-7A8C-4367-AC50-A811B974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E4D2-AC08-4B5B-B4A0-273465D2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2227-0A80-49C5-838F-680FC2FD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55D8-B175-4814-93F2-B888B0F4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D06B-BECE-4D27-9604-17EFE406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CD50-CBBF-4AE4-8AC7-F763AE41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83E9-57BB-42A9-AB79-F8656EC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03E0-4010-433E-ADCE-0337694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B8C3-5384-443D-8EF8-23BA32C0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843C-C515-4DEA-8B06-E812C55B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8D06-C2B2-40E4-B227-5D3D45AF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D8AE7-456D-44BC-9F56-CD6EB3EA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8574-2C2D-490E-B623-091E41A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229E-E46D-4FDE-B967-B1BF9DA2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68B92-FDEC-4A32-93BE-CDF60D94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5C0B-EE30-4D41-9A6A-5111D7E2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2691D-61FD-46BA-9DBC-479CB3A5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9B38-0CFD-4AE2-948A-DF20C08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2C69-2841-49D6-AF32-07D306B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BFBF-2A8B-4ACB-8CDD-4C16F459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6BC5-8F76-4626-8096-A894E3A9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57396-5F05-4D20-AD9F-F49B5ECB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A9C1-7272-4B67-ACAA-ADB2F229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2180-90F6-43DC-AF3E-F665BCE4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94983-FFE7-484F-BECC-5BDF9A0D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96BD8-7A28-4826-8ED7-7249E256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C58F-27C4-455E-8172-4C0F5775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E9F68-B114-4491-9371-3587CE16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934B-6616-4D7E-B996-8366805E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701D9-B2C5-4B8E-9A83-F08D727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909C-EC90-4770-BD00-A698663D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9ADD4-5792-46E7-B0CA-7F8E3BEA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33CBB-0E3B-4B14-95A4-F3D53B89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42F5-0246-42E0-B318-EFC3B85E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24D56-EB55-40F8-A850-A5576042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43BD6-35C2-41B6-AEC6-67C1DC71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300A6-5B9A-4517-BBF1-5326E93D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FEE3F-4EBE-46D0-A10C-D730A2A7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7AF31-00F8-4517-A03F-CDBA777E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9AA4-7BEB-4E26-8F51-8BF45CE1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8E40-C424-47B9-8AE1-2B4ADA8E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06894-E15E-42CF-B19A-D0D0433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840E0-0F69-44D1-B0FB-18CA43D3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4A3A4-0AA0-4D9F-A116-1A69F197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A73E5-EBCE-451E-AA4E-AF6FBCCC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0FD84-445D-446D-B38E-28087C26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DEE16-F803-4695-9A04-9221107A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11878-B80D-4A50-AF7A-D1F9A9F1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04CEC-3703-46C2-9F38-DC442081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BD2A3-1CE7-4EF3-98C6-2F4E3013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74BFE-C222-4AAF-9949-FB802541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BACBB-DA44-4F81-B8BD-D925667B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A737F-DDAD-4A68-A7F8-982BC33A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7DB5E-8E1C-47B7-81E7-9CBB5F37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17184-9A16-4D56-9A7D-76EA0105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09856-8C40-46F9-A0FE-24CD5861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8A8DD-3FA4-4EE0-BB4B-36FADFCA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B1345-2DF5-4960-8894-199468FD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77F14-025A-4710-AB68-E5329656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6042D-262A-459F-A89A-FEDEF0CF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5361A-9BE6-463E-B1C1-A527BDC9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E2FED-935F-4DFA-BE9E-CFBDBA02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7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outline text forma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181080" indent="-181080">
              <a:lnSpc>
                <a:spcPct val="120000"/>
              </a:lnSpc>
              <a:spcBef>
                <a:spcPts val="7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ond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181080" indent="-181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227000"/>
              <a:buFont typeface="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rd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81080" indent="-181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400000"/>
              <a:buFont typeface="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ur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4" marL="181080" indent="-181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400000"/>
              <a:buFont typeface="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f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5" marL="181080" indent="-181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400000"/>
              <a:buFont typeface="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x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6" marL="181080" indent="-181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400000"/>
              <a:buFont typeface="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ven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round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" name="组合 2051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2" name="同心圆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文本框 2053"/>
            <p:cNvSpPr/>
            <p:nvPr/>
          </p:nvSpPr>
          <p:spPr>
            <a:xfrm rot="2315400">
              <a:off x="347040" y="1215720"/>
              <a:ext cx="7956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B593-30FD-4FA5-AC1A-CF5EEBA1C7A6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288-9C4D-43C5-8009-B11DF4EC6515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2-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7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outline text forma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181080" indent="-181080">
              <a:lnSpc>
                <a:spcPct val="120000"/>
              </a:lnSpc>
              <a:spcBef>
                <a:spcPts val="7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ond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181080" indent="-181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227000"/>
              <a:buFont typeface="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rd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81080" indent="-181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400000"/>
              <a:buFont typeface="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ur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4" marL="181080" indent="-181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400000"/>
              <a:buFont typeface="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f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5" marL="181080" indent="-181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400000"/>
              <a:buFont typeface="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x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6" marL="181080" indent="-181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400000"/>
              <a:buFont typeface="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ven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round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组合 4099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0" name="同心圆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文本框 4101"/>
            <p:cNvSpPr/>
            <p:nvPr/>
          </p:nvSpPr>
          <p:spPr>
            <a:xfrm rot="2315400">
              <a:off x="347040" y="1215720"/>
              <a:ext cx="7956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2-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5" name="组合 410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6" name="椭圆 12" descr=""/>
            <p:cNvPicPr/>
            <p:nvPr/>
          </p:nvPicPr>
          <p:blipFill>
            <a:blip r:embed="rId5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4107"/>
            <p:cNvSpPr/>
            <p:nvPr/>
          </p:nvSpPr>
          <p:spPr>
            <a:xfrm>
              <a:off x="95220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FD73-90A2-4E42-B1AB-A97CCAC17D29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939-A19A-41B7-BF5C-73CC09C7B9AA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5123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3" name="椭圆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文本框 512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9AB0-3FE0-458F-9967-870EE8693F3A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1226-5199-4042-AC62-C3234ACD3C29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D464-6451-4F0A-AF99-C4E4E51BBC72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6335-C4E0-48CD-BCA0-19075C8F5521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A410-ED64-4BD4-B375-E05BD6D6E479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D571-F57C-43A1-A5BD-05E00243CDDE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9D5B-23CA-472F-BB5D-2647F837683D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45C5-CFFC-4F6D-AF21-657223F8058D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9217"/>
          <p:cNvGrpSpPr/>
          <p:nvPr/>
        </p:nvGrpSpPr>
        <p:grpSpPr>
          <a:xfrm>
            <a:off x="652320" y="974880"/>
            <a:ext cx="4797360" cy="4797360"/>
            <a:chOff x="652320" y="974880"/>
            <a:chExt cx="4797360" cy="4797360"/>
          </a:xfrm>
        </p:grpSpPr>
        <p:pic>
          <p:nvPicPr>
            <p:cNvPr id="353" name="矩形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36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文本框 9219"/>
            <p:cNvSpPr/>
            <p:nvPr/>
          </p:nvSpPr>
          <p:spPr>
            <a:xfrm>
              <a:off x="761760" y="106704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01F0-942C-4F0B-A946-7C4D9541BFFF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CE07-CCFC-4C78-8082-1B4EEE0238B8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9,3,&#24187;&#28783;&#29255; 3" TargetMode="External"/><Relationship Id="rId2" Type="http://schemas.openxmlformats.org/officeDocument/2006/relationships/hyperlink" Target="380,13,&#31995;&#32479;&#31649;&#29702;&#21592;&#30340;&#25805;&#20316;" TargetMode="External"/><Relationship Id="rId3" Type="http://schemas.openxmlformats.org/officeDocument/2006/relationships/hyperlink" Target="396,31,&#24187;&#28783;&#29255; 31" TargetMode="External"/><Relationship Id="rId4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hyperlink" Target="http://10.168.201.59/smis" TargetMode="External"/><Relationship Id="rId4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矩形 4" descr=""/>
          <p:cNvPicPr/>
          <p:nvPr/>
        </p:nvPicPr>
        <p:blipFill>
          <a:blip r:embed="rId1"/>
          <a:stretch/>
        </p:blipFill>
        <p:spPr>
          <a:xfrm>
            <a:off x="971640" y="1414440"/>
            <a:ext cx="8208720" cy="2664000"/>
          </a:xfrm>
          <a:prstGeom prst="rect">
            <a:avLst/>
          </a:prstGeom>
          <a:ln w="0">
            <a:noFill/>
          </a:ln>
        </p:spPr>
      </p:pic>
      <p:pic>
        <p:nvPicPr>
          <p:cNvPr id="399" name="任意多边形 5" descr=""/>
          <p:cNvPicPr/>
          <p:nvPr/>
        </p:nvPicPr>
        <p:blipFill>
          <a:blip r:embed="rId2"/>
          <a:stretch/>
        </p:blipFill>
        <p:spPr>
          <a:xfrm>
            <a:off x="-90360" y="4011480"/>
            <a:ext cx="9300960" cy="2243160"/>
          </a:xfrm>
          <a:prstGeom prst="rect">
            <a:avLst/>
          </a:prstGeom>
          <a:ln w="0">
            <a:noFill/>
          </a:ln>
        </p:spPr>
      </p:pic>
      <p:sp>
        <p:nvSpPr>
          <p:cNvPr id="400" name="TextBox 7"/>
          <p:cNvSpPr/>
          <p:nvPr/>
        </p:nvSpPr>
        <p:spPr>
          <a:xfrm>
            <a:off x="971640" y="1994040"/>
            <a:ext cx="8066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贵州省人力资源社会保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数据集中管理与应用系统操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2881440" y="5359320"/>
            <a:ext cx="1839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0"/>
          <p:cNvSpPr/>
          <p:nvPr/>
        </p:nvSpPr>
        <p:spPr>
          <a:xfrm>
            <a:off x="3027600" y="5837400"/>
            <a:ext cx="2120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     </a:t>
            </a: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26</a:t>
            </a: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11270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20482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图片 1" descr="N6Y]A([569]QMS(V7D_KDT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012680" y="3240"/>
            <a:ext cx="8097840" cy="413532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2" descr=")X}364D}O{JRH6OCF25IXOA"/>
          <p:cNvPicPr/>
          <p:nvPr/>
        </p:nvPicPr>
        <p:blipFill>
          <a:blip r:embed="rId2"/>
          <a:stretch/>
        </p:blipFill>
        <p:spPr>
          <a:xfrm>
            <a:off x="1012680" y="3666960"/>
            <a:ext cx="809964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图片 1" descr="360截图20201201101513020"/>
          <p:cNvPicPr/>
          <p:nvPr/>
        </p:nvPicPr>
        <p:blipFill>
          <a:blip r:embed="rId1"/>
          <a:stretch/>
        </p:blipFill>
        <p:spPr>
          <a:xfrm>
            <a:off x="992160" y="9360"/>
            <a:ext cx="8532720" cy="683928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20482"/>
          <p:cNvSpPr/>
          <p:nvPr/>
        </p:nvSpPr>
        <p:spPr>
          <a:xfrm>
            <a:off x="8388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图片 2" descr="$I[(FYS9`4YP7D%_EJ7A3TE"/>
          <p:cNvPicPr/>
          <p:nvPr/>
        </p:nvPicPr>
        <p:blipFill>
          <a:blip r:embed="rId1"/>
          <a:stretch/>
        </p:blipFill>
        <p:spPr>
          <a:xfrm>
            <a:off x="1019160" y="3240"/>
            <a:ext cx="8202600" cy="685152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0482"/>
          <p:cNvSpPr/>
          <p:nvPr/>
        </p:nvSpPr>
        <p:spPr>
          <a:xfrm>
            <a:off x="8388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0482"/>
          <p:cNvSpPr/>
          <p:nvPr/>
        </p:nvSpPr>
        <p:spPr>
          <a:xfrm>
            <a:off x="8388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图片 4" descr="H{11$0OS$[Y18SBAN%A@19U"/>
          <p:cNvPicPr/>
          <p:nvPr/>
        </p:nvPicPr>
        <p:blipFill>
          <a:blip r:embed="rId1"/>
          <a:stretch/>
        </p:blipFill>
        <p:spPr>
          <a:xfrm>
            <a:off x="1014480" y="-12600"/>
            <a:ext cx="8105760" cy="6875280"/>
          </a:xfrm>
          <a:prstGeom prst="rect">
            <a:avLst/>
          </a:prstGeom>
          <a:ln w="0">
            <a:noFill/>
          </a:ln>
        </p:spPr>
      </p:pic>
      <p:sp>
        <p:nvSpPr>
          <p:cNvPr id="435" name="文本框 3"/>
          <p:cNvSpPr/>
          <p:nvPr/>
        </p:nvSpPr>
        <p:spPr>
          <a:xfrm>
            <a:off x="5484960" y="230040"/>
            <a:ext cx="351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重新在浏览器地址栏输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//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/222.197.207.138:8090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/smis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（外网）或者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://10.168.201.59/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mis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（内网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22531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图片 1" descr="])GW0$M`SP`9[(`O2}AXZAU"/>
          <p:cNvPicPr/>
          <p:nvPr/>
        </p:nvPicPr>
        <p:blipFill>
          <a:blip r:embed="rId1"/>
          <a:stretch/>
        </p:blipFill>
        <p:spPr>
          <a:xfrm>
            <a:off x="987480" y="11160"/>
            <a:ext cx="8458200" cy="68342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1434960" y="1319040"/>
            <a:ext cx="48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输入用户名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密码，初始密码是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Wyg1m2m#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，点击登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%L70HKY@GQK83[I2CJ}($$8"/>
          <p:cNvPicPr/>
          <p:nvPr/>
        </p:nvPicPr>
        <p:blipFill>
          <a:blip r:embed="rId1"/>
          <a:stretch/>
        </p:blipFill>
        <p:spPr>
          <a:xfrm>
            <a:off x="1023840" y="-1440"/>
            <a:ext cx="8212320" cy="686268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26627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1" descr="YV3GUSFY}J24[R$TKC%VNJ1"/>
          <p:cNvPicPr/>
          <p:nvPr/>
        </p:nvPicPr>
        <p:blipFill>
          <a:blip r:embed="rId1"/>
          <a:stretch/>
        </p:blipFill>
        <p:spPr>
          <a:xfrm>
            <a:off x="998640" y="34920"/>
            <a:ext cx="8196120" cy="68310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3"/>
          <p:cNvSpPr/>
          <p:nvPr/>
        </p:nvSpPr>
        <p:spPr>
          <a:xfrm>
            <a:off x="2820960" y="45766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修改密码，密码是字母加数字，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，须包含一个大写字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6627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图片 2" descr=""/>
          <p:cNvPicPr/>
          <p:nvPr/>
        </p:nvPicPr>
        <p:blipFill>
          <a:blip r:embed="rId1"/>
          <a:stretch/>
        </p:blipFill>
        <p:spPr>
          <a:xfrm>
            <a:off x="965160" y="-11160"/>
            <a:ext cx="8282160" cy="686268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657520" y="24177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要特别注意当前工作年度这一细节，否则会带来一系列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5603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图片 1" descr="6E~T52H@V9R3~4Q7}X8NND1"/>
          <p:cNvPicPr/>
          <p:nvPr/>
        </p:nvPicPr>
        <p:blipFill>
          <a:blip r:embed="rId1"/>
          <a:stretch/>
        </p:blipFill>
        <p:spPr>
          <a:xfrm>
            <a:off x="1004760" y="-20520"/>
            <a:ext cx="8167680" cy="6889680"/>
          </a:xfrm>
          <a:prstGeom prst="rect">
            <a:avLst/>
          </a:prstGeom>
          <a:ln w="0">
            <a:noFill/>
          </a:ln>
        </p:spPr>
      </p:pic>
      <p:sp>
        <p:nvSpPr>
          <p:cNvPr id="448" name="文本框 26627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线形标注 1 2"/>
          <p:cNvSpPr/>
          <p:nvPr/>
        </p:nvSpPr>
        <p:spPr>
          <a:xfrm>
            <a:off x="3236760" y="622440"/>
            <a:ext cx="917640" cy="361800"/>
          </a:xfrm>
          <a:prstGeom prst="borderCallout1">
            <a:avLst>
              <a:gd name="adj1" fmla="val 18750"/>
              <a:gd name="adj2" fmla="val -8333"/>
              <a:gd name="adj3" fmla="val 112500"/>
              <a:gd name="adj4" fmla="val 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系统管理员的操作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文本框 27650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内容占位符 27651" descr=""/>
          <p:cNvPicPr/>
          <p:nvPr/>
        </p:nvPicPr>
        <p:blipFill>
          <a:blip r:embed="rId1"/>
          <a:stretch/>
        </p:blipFill>
        <p:spPr>
          <a:xfrm>
            <a:off x="1046160" y="0"/>
            <a:ext cx="8062920" cy="681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第一部分  共同操作使用程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第二部分  汇总单位操作程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第三部分  填报单位操作程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文本框 12291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20600" y="-90360"/>
            <a:ext cx="74995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文本框 28674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内容占位符 2" descr="2F5Z6X{TQSA8JTNKW4%P{SY"/>
          <p:cNvPicPr/>
          <p:nvPr/>
        </p:nvPicPr>
        <p:blipFill>
          <a:blip r:embed="rId1"/>
          <a:stretch/>
        </p:blipFill>
        <p:spPr>
          <a:xfrm>
            <a:off x="1020600" y="757080"/>
            <a:ext cx="814896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4360" y="-20880"/>
            <a:ext cx="7499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新增单位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57" name="内容占位符 29699" descr="QQ图片20070301032727"/>
          <p:cNvPicPr/>
          <p:nvPr/>
        </p:nvPicPr>
        <p:blipFill>
          <a:blip r:embed="rId1"/>
          <a:stretch/>
        </p:blipFill>
        <p:spPr>
          <a:xfrm>
            <a:off x="1044720" y="3789360"/>
            <a:ext cx="8100720" cy="3027240"/>
          </a:xfrm>
          <a:prstGeom prst="rect">
            <a:avLst/>
          </a:prstGeom>
          <a:ln w="0">
            <a:noFill/>
          </a:ln>
        </p:spPr>
      </p:pic>
      <p:sp>
        <p:nvSpPr>
          <p:cNvPr id="458" name="文本框 29700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434600" y="1447560"/>
            <a:ext cx="367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0" name="图片 2" descr="]AD`N]Z9J_P0}BKTE_56091"/>
          <p:cNvPicPr/>
          <p:nvPr/>
        </p:nvPicPr>
        <p:blipFill>
          <a:blip r:embed="rId2"/>
          <a:stretch/>
        </p:blipFill>
        <p:spPr>
          <a:xfrm>
            <a:off x="1042920" y="515880"/>
            <a:ext cx="810252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87120" y="-208440"/>
            <a:ext cx="749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修改单位信息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文本框 30723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内容占位符 5" descr=""/>
          <p:cNvPicPr/>
          <p:nvPr/>
        </p:nvPicPr>
        <p:blipFill>
          <a:blip r:embed="rId1"/>
          <a:stretch/>
        </p:blipFill>
        <p:spPr>
          <a:xfrm>
            <a:off x="987480" y="620640"/>
            <a:ext cx="8188200" cy="3919680"/>
          </a:xfrm>
          <a:prstGeom prst="rect">
            <a:avLst/>
          </a:prstGeom>
          <a:ln w="0">
            <a:noFill/>
          </a:ln>
        </p:spPr>
      </p:pic>
      <p:pic>
        <p:nvPicPr>
          <p:cNvPr id="464" name="内容占位符 6" descr="U02L)E6UWAZLW]7Y{XMD}~O"/>
          <p:cNvPicPr/>
          <p:nvPr/>
        </p:nvPicPr>
        <p:blipFill>
          <a:blip r:embed="rId2"/>
          <a:stretch/>
        </p:blipFill>
        <p:spPr>
          <a:xfrm>
            <a:off x="987480" y="4376880"/>
            <a:ext cx="8103960" cy="24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1120" y="-63720"/>
            <a:ext cx="7499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分配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文本框 31746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内容占位符 2" descr="7Z8%`K86DR9CG_J94BU7QA8"/>
          <p:cNvPicPr/>
          <p:nvPr/>
        </p:nvPicPr>
        <p:blipFill>
          <a:blip r:embed="rId1"/>
          <a:stretch/>
        </p:blipFill>
        <p:spPr>
          <a:xfrm>
            <a:off x="1041480" y="628560"/>
            <a:ext cx="8116920" cy="6253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3"/>
          <p:cNvSpPr/>
          <p:nvPr/>
        </p:nvSpPr>
        <p:spPr>
          <a:xfrm>
            <a:off x="2781360" y="2448000"/>
            <a:ext cx="24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不要随意勾选这两个选项，只能把对的报表分给对的单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12680" y="820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报表分配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0" name="内容占位符 3" descr="3%JZ7S@1@)Q[I(SWP14_G_G"/>
          <p:cNvPicPr/>
          <p:nvPr/>
        </p:nvPicPr>
        <p:blipFill>
          <a:blip r:embed="rId1"/>
          <a:stretch/>
        </p:blipFill>
        <p:spPr>
          <a:xfrm>
            <a:off x="1014480" y="615960"/>
            <a:ext cx="8164440" cy="6273720"/>
          </a:xfrm>
          <a:prstGeom prst="rect">
            <a:avLst/>
          </a:prstGeom>
          <a:ln w="0">
            <a:noFill/>
          </a:ln>
        </p:spPr>
      </p:pic>
      <p:sp>
        <p:nvSpPr>
          <p:cNvPr id="471" name="文本框 31746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34920" y="-201960"/>
            <a:ext cx="74995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分配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文本框 32770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内容占位符 2" descr="%8DV44{4@EGTZ0YN_8XCY8H"/>
          <p:cNvPicPr/>
          <p:nvPr/>
        </p:nvPicPr>
        <p:blipFill>
          <a:blip r:embed="rId1"/>
          <a:stretch/>
        </p:blipFill>
        <p:spPr>
          <a:xfrm>
            <a:off x="998640" y="619200"/>
            <a:ext cx="812772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84240" y="-170280"/>
            <a:ext cx="74995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分配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文本框 33794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内容占位符 1" descr="D{N6%Z_S@28W[VKPTM0K{CB"/>
          <p:cNvPicPr/>
          <p:nvPr/>
        </p:nvPicPr>
        <p:blipFill>
          <a:blip r:embed="rId1"/>
          <a:stretch/>
        </p:blipFill>
        <p:spPr>
          <a:xfrm>
            <a:off x="982800" y="619200"/>
            <a:ext cx="820728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31760" y="-235440"/>
            <a:ext cx="74995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分配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文本框 34818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0" name="内容占位符 8" descr="[_R]Q)9Z51W~B`S@9J3L4CN"/>
          <p:cNvPicPr/>
          <p:nvPr/>
        </p:nvPicPr>
        <p:blipFill>
          <a:blip r:embed="rId1"/>
          <a:stretch/>
        </p:blipFill>
        <p:spPr>
          <a:xfrm>
            <a:off x="944640" y="549360"/>
            <a:ext cx="8202600" cy="63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02960" y="-190440"/>
            <a:ext cx="74991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处理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文本框 35842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内容占位符 2" descr="6R`)EK[5[M[V[SQ(_%50I_H"/>
          <p:cNvPicPr/>
          <p:nvPr/>
        </p:nvPicPr>
        <p:blipFill>
          <a:blip r:embed="rId1"/>
          <a:stretch/>
        </p:blipFill>
        <p:spPr>
          <a:xfrm>
            <a:off x="1003320" y="641520"/>
            <a:ext cx="8121600" cy="61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55440" y="-213120"/>
            <a:ext cx="749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处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上报情况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文本框 36866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内容占位符 3" descr="WRXRVA6PI[9N96DGW`E@H{7"/>
          <p:cNvPicPr/>
          <p:nvPr/>
        </p:nvPicPr>
        <p:blipFill>
          <a:blip r:embed="rId1"/>
          <a:stretch/>
        </p:blipFill>
        <p:spPr>
          <a:xfrm>
            <a:off x="1031760" y="608040"/>
            <a:ext cx="8115480" cy="62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任意多边形 6" descr=""/>
          <p:cNvPicPr/>
          <p:nvPr/>
        </p:nvPicPr>
        <p:blipFill>
          <a:blip r:embed="rId1"/>
          <a:stretch/>
        </p:blipFill>
        <p:spPr>
          <a:xfrm>
            <a:off x="-98280" y="4437000"/>
            <a:ext cx="9013680" cy="2522520"/>
          </a:xfrm>
          <a:prstGeom prst="rect">
            <a:avLst/>
          </a:prstGeom>
          <a:ln w="0">
            <a:noFill/>
          </a:ln>
        </p:spPr>
      </p:pic>
      <p:pic>
        <p:nvPicPr>
          <p:cNvPr id="407" name="任意多边形 5" descr=""/>
          <p:cNvPicPr/>
          <p:nvPr/>
        </p:nvPicPr>
        <p:blipFill>
          <a:blip r:embed="rId2"/>
          <a:stretch/>
        </p:blipFill>
        <p:spPr>
          <a:xfrm>
            <a:off x="-90360" y="4011480"/>
            <a:ext cx="9300960" cy="2243160"/>
          </a:xfrm>
          <a:prstGeom prst="rect">
            <a:avLst/>
          </a:prstGeom>
          <a:ln w="0">
            <a:noFill/>
          </a:ln>
        </p:spPr>
      </p:pic>
      <p:sp>
        <p:nvSpPr>
          <p:cNvPr id="408" name="文本框 13315"/>
          <p:cNvSpPr/>
          <p:nvPr/>
        </p:nvSpPr>
        <p:spPr>
          <a:xfrm>
            <a:off x="1044720" y="1270080"/>
            <a:ext cx="8099280" cy="34844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浏览器地址栏输入：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http://ldjy.gzsrs.cn:8090/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（外网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http://10.168.201.59/smis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（内网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13316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8280" y="-244440"/>
            <a:ext cx="7499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催报管理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文本框 37890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内容占位符 2" descr="VD5{2~_FBD2GTUI]`ZGKT]I"/>
          <p:cNvPicPr/>
          <p:nvPr/>
        </p:nvPicPr>
        <p:blipFill>
          <a:blip r:embed="rId1"/>
          <a:stretch/>
        </p:blipFill>
        <p:spPr>
          <a:xfrm>
            <a:off x="998640" y="596880"/>
            <a:ext cx="809928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4360" y="1440"/>
            <a:ext cx="749916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催报管理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文本框 38914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内容占位符 38915" descr="QQ图片20070301073319"/>
          <p:cNvPicPr/>
          <p:nvPr/>
        </p:nvPicPr>
        <p:blipFill>
          <a:blip r:embed="rId1"/>
          <a:stretch/>
        </p:blipFill>
        <p:spPr>
          <a:xfrm>
            <a:off x="1044720" y="549360"/>
            <a:ext cx="8100720" cy="63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44360" y="1080"/>
            <a:ext cx="749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退回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文本框 39938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内容占位符 2" descr=""/>
          <p:cNvPicPr/>
          <p:nvPr/>
        </p:nvPicPr>
        <p:blipFill>
          <a:blip r:embed="rId1"/>
          <a:stretch/>
        </p:blipFill>
        <p:spPr>
          <a:xfrm>
            <a:off x="1044720" y="477720"/>
            <a:ext cx="8115120" cy="63658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3"/>
          <p:cNvSpPr/>
          <p:nvPr/>
        </p:nvSpPr>
        <p:spPr>
          <a:xfrm>
            <a:off x="4545000" y="2146320"/>
            <a:ext cx="24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只能退回下一级的报表，不能越级退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44360" y="-360"/>
            <a:ext cx="74991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退回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文本框 40962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内容占位符 40963" descr="QQ图片20070301073319"/>
          <p:cNvPicPr/>
          <p:nvPr/>
        </p:nvPicPr>
        <p:blipFill>
          <a:blip r:embed="rId1"/>
          <a:stretch/>
        </p:blipFill>
        <p:spPr>
          <a:xfrm>
            <a:off x="1044720" y="765000"/>
            <a:ext cx="8065800" cy="60915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3"/>
          <p:cNvSpPr/>
          <p:nvPr/>
        </p:nvSpPr>
        <p:spPr>
          <a:xfrm>
            <a:off x="2395440" y="3135240"/>
            <a:ext cx="32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简单写一下原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内容占位符 3" descr=""/>
          <p:cNvPicPr/>
          <p:nvPr/>
        </p:nvPicPr>
        <p:blipFill>
          <a:blip r:embed="rId1"/>
          <a:stretch/>
        </p:blipFill>
        <p:spPr>
          <a:xfrm>
            <a:off x="968400" y="650880"/>
            <a:ext cx="8201160" cy="6203880"/>
          </a:xfrm>
          <a:prstGeom prst="rect">
            <a:avLst/>
          </a:prstGeom>
          <a:ln w="0">
            <a:noFill/>
          </a:ln>
        </p:spPr>
      </p:pic>
      <p:sp>
        <p:nvSpPr>
          <p:cNvPr id="502" name="标题 40961"/>
          <p:cNvSpPr/>
          <p:nvPr/>
        </p:nvSpPr>
        <p:spPr>
          <a:xfrm>
            <a:off x="1044720" y="0"/>
            <a:ext cx="74991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  <a:ea typeface="华文中宋"/>
              </a:rPr>
              <a:t>退回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0962"/>
          <p:cNvSpPr/>
          <p:nvPr/>
        </p:nvSpPr>
        <p:spPr>
          <a:xfrm>
            <a:off x="9360" y="41580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4360" y="-19440"/>
            <a:ext cx="749916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数据汇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文本框 41986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内容占位符 41987" descr="QQ图片20070301073319"/>
          <p:cNvPicPr/>
          <p:nvPr/>
        </p:nvPicPr>
        <p:blipFill>
          <a:blip r:embed="rId1"/>
          <a:stretch/>
        </p:blipFill>
        <p:spPr>
          <a:xfrm>
            <a:off x="974880" y="549360"/>
            <a:ext cx="8207280" cy="631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19160" y="-222120"/>
            <a:ext cx="74995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数据上报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文本框 43010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内容占位符 2" descr="F$JG)]9}1HP8VWLWU{GH8OD"/>
          <p:cNvPicPr/>
          <p:nvPr/>
        </p:nvPicPr>
        <p:blipFill>
          <a:blip r:embed="rId1"/>
          <a:stretch/>
        </p:blipFill>
        <p:spPr>
          <a:xfrm>
            <a:off x="1019160" y="660240"/>
            <a:ext cx="8148600" cy="6237360"/>
          </a:xfrm>
          <a:prstGeom prst="rect">
            <a:avLst/>
          </a:prstGeom>
          <a:ln w="0">
            <a:noFill/>
          </a:ln>
        </p:spPr>
      </p:pic>
      <p:sp>
        <p:nvSpPr>
          <p:cNvPr id="510" name="TextBox 3"/>
          <p:cNvSpPr/>
          <p:nvPr/>
        </p:nvSpPr>
        <p:spPr>
          <a:xfrm>
            <a:off x="2687760" y="3135240"/>
            <a:ext cx="32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如果上级单位已上报数据，本级单位就不能再报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图片 44035" descr="BJX`UZF{BPI@Y09)9SCZC`4"/>
          <p:cNvPicPr/>
          <p:nvPr/>
        </p:nvPicPr>
        <p:blipFill>
          <a:blip r:embed="rId1"/>
          <a:stretch/>
        </p:blipFill>
        <p:spPr>
          <a:xfrm>
            <a:off x="97308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文本框 44036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66600" y="-171360"/>
            <a:ext cx="7499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报表填报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文本框 45058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内容占位符 2" descr="J~~Q[G6HM]TDNC8]0%R%TGS"/>
          <p:cNvPicPr/>
          <p:nvPr/>
        </p:nvPicPr>
        <p:blipFill>
          <a:blip r:embed="rId1"/>
          <a:stretch/>
        </p:blipFill>
        <p:spPr>
          <a:xfrm>
            <a:off x="966960" y="682560"/>
            <a:ext cx="8223120" cy="6153120"/>
          </a:xfrm>
          <a:prstGeom prst="rect">
            <a:avLst/>
          </a:prstGeom>
          <a:ln w="0">
            <a:noFill/>
          </a:ln>
        </p:spPr>
      </p:pic>
      <p:sp>
        <p:nvSpPr>
          <p:cNvPr id="518" name="TextBox 3"/>
          <p:cNvSpPr/>
          <p:nvPr/>
        </p:nvSpPr>
        <p:spPr>
          <a:xfrm>
            <a:off x="4202280" y="1155600"/>
            <a:ext cx="321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如果上级单位没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分配报表，这里就没有可选择的报表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0" name="文本框 46081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46082"/>
          <p:cNvSpPr/>
          <p:nvPr/>
        </p:nvSpPr>
        <p:spPr>
          <a:xfrm>
            <a:off x="971640" y="25560"/>
            <a:ext cx="74991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  <a:ea typeface="华文中宋"/>
              </a:rPr>
              <a:t>报表保存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内容占位符 2" descr="J1SRT9JY(OMXE]`4L(LT3}8"/>
          <p:cNvPicPr/>
          <p:nvPr/>
        </p:nvPicPr>
        <p:blipFill>
          <a:blip r:embed="rId1"/>
          <a:stretch/>
        </p:blipFill>
        <p:spPr>
          <a:xfrm>
            <a:off x="971640" y="568440"/>
            <a:ext cx="8186760" cy="63118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"/>
          <p:cNvSpPr/>
          <p:nvPr/>
        </p:nvSpPr>
        <p:spPr>
          <a:xfrm>
            <a:off x="4030560" y="1967040"/>
            <a:ext cx="16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在线保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3"/>
          <p:cNvSpPr/>
          <p:nvPr/>
        </p:nvSpPr>
        <p:spPr>
          <a:xfrm>
            <a:off x="5864400" y="777960"/>
            <a:ext cx="32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网络不稳定，时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中断时使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rcRect l="321" t="18409" r="-316" b="62"/>
          <a:stretch/>
        </p:blipFill>
        <p:spPr>
          <a:xfrm>
            <a:off x="930240" y="-12600"/>
            <a:ext cx="8240760" cy="6902280"/>
          </a:xfrm>
          <a:prstGeom prst="rect">
            <a:avLst/>
          </a:prstGeom>
          <a:ln w="0">
            <a:noFill/>
          </a:ln>
        </p:spPr>
      </p:pic>
      <p:sp>
        <p:nvSpPr>
          <p:cNvPr id="411" name="文本框 15362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4360" y="-20880"/>
            <a:ext cx="74991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报表审核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逻辑性审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文本框 47106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内容占位符 47107" descr="QQ图片20070301073319"/>
          <p:cNvPicPr/>
          <p:nvPr/>
        </p:nvPicPr>
        <p:blipFill>
          <a:blip r:embed="rId1"/>
          <a:stretch/>
        </p:blipFill>
        <p:spPr>
          <a:xfrm>
            <a:off x="973080" y="549360"/>
            <a:ext cx="8170920" cy="631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4360" y="-20520"/>
            <a:ext cx="74991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报表审核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合理性审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9" name="文本框 48130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内容占位符 48131" descr="QQ图片20070301073319"/>
          <p:cNvPicPr/>
          <p:nvPr/>
        </p:nvPicPr>
        <p:blipFill>
          <a:blip r:embed="rId1"/>
          <a:stretch/>
        </p:blipFill>
        <p:spPr>
          <a:xfrm>
            <a:off x="973080" y="622440"/>
            <a:ext cx="8170920" cy="62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71280" y="3240"/>
            <a:ext cx="74991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数据上报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文本框 49154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内容占位符 49155" descr=""/>
          <p:cNvPicPr/>
          <p:nvPr/>
        </p:nvPicPr>
        <p:blipFill>
          <a:blip r:embed="rId1"/>
          <a:stretch/>
        </p:blipFill>
        <p:spPr>
          <a:xfrm>
            <a:off x="974880" y="477720"/>
            <a:ext cx="8205480" cy="638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57240" y="-235440"/>
            <a:ext cx="74995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报表打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文本框 50178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内容占位符 2" descr="`V4DOS[OI2WOXHQ(KM(6GU3"/>
          <p:cNvPicPr/>
          <p:nvPr/>
        </p:nvPicPr>
        <p:blipFill>
          <a:blip r:embed="rId1"/>
          <a:stretch/>
        </p:blipFill>
        <p:spPr>
          <a:xfrm>
            <a:off x="1020600" y="603360"/>
            <a:ext cx="8116920" cy="62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-138240"/>
            <a:ext cx="749952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报表打印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—</a:t>
            </a: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封面打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38" name="内容占位符 3" descr=""/>
          <p:cNvPicPr/>
          <p:nvPr/>
        </p:nvPicPr>
        <p:blipFill>
          <a:blip r:embed="rId1"/>
          <a:stretch/>
        </p:blipFill>
        <p:spPr>
          <a:xfrm>
            <a:off x="979560" y="585720"/>
            <a:ext cx="8172360" cy="6228000"/>
          </a:xfrm>
          <a:prstGeom prst="rect">
            <a:avLst/>
          </a:prstGeom>
          <a:ln w="0">
            <a:noFill/>
          </a:ln>
        </p:spPr>
      </p:pic>
      <p:sp>
        <p:nvSpPr>
          <p:cNvPr id="539" name="文本框 50178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圆角矩形 2"/>
          <p:cNvSpPr/>
          <p:nvPr/>
        </p:nvSpPr>
        <p:spPr>
          <a:xfrm>
            <a:off x="1187280" y="2349360"/>
            <a:ext cx="7705800" cy="20178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ffffff"/>
            </a:solidFill>
            <a:round/>
          </a:ln>
          <a:effectLst>
            <a:outerShdw dist="1260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ill Sans MT"/>
                <a:ea typeface="华文中宋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51202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文本框 16386"/>
          <p:cNvSpPr/>
          <p:nvPr/>
        </p:nvSpPr>
        <p:spPr>
          <a:xfrm>
            <a:off x="5220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内容占位符 2" descr="$BW8[}D~P(X[KN4`8CGA~KV"/>
          <p:cNvPicPr/>
          <p:nvPr/>
        </p:nvPicPr>
        <p:blipFill>
          <a:blip r:embed="rId1"/>
          <a:stretch/>
        </p:blipFill>
        <p:spPr>
          <a:xfrm>
            <a:off x="1027080" y="-4680"/>
            <a:ext cx="811836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图片 1" descr="QXHKY3][4TT9J~T3}3)UK67"/>
          <p:cNvPicPr/>
          <p:nvPr/>
        </p:nvPicPr>
        <p:blipFill>
          <a:blip r:embed="rId1"/>
          <a:stretch/>
        </p:blipFill>
        <p:spPr>
          <a:xfrm>
            <a:off x="981000" y="28440"/>
            <a:ext cx="8148600" cy="54612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3"/>
          <p:cNvSpPr/>
          <p:nvPr/>
        </p:nvSpPr>
        <p:spPr>
          <a:xfrm>
            <a:off x="4576680" y="28440"/>
            <a:ext cx="26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不要存放在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图片 1" descr="DD5M7$0NHM1`WF[U~DQ{]6L"/>
          <p:cNvPicPr/>
          <p:nvPr/>
        </p:nvPicPr>
        <p:blipFill>
          <a:blip r:embed="rId2"/>
          <a:stretch/>
        </p:blipFill>
        <p:spPr>
          <a:xfrm>
            <a:off x="981000" y="5489640"/>
            <a:ext cx="8172360" cy="1346040"/>
          </a:xfrm>
          <a:prstGeom prst="rect">
            <a:avLst/>
          </a:prstGeom>
          <a:ln w="0">
            <a:noFill/>
          </a:ln>
        </p:spPr>
      </p:pic>
      <p:sp>
        <p:nvSpPr>
          <p:cNvPr id="418" name="文本框 16386"/>
          <p:cNvSpPr/>
          <p:nvPr/>
        </p:nvSpPr>
        <p:spPr>
          <a:xfrm>
            <a:off x="5220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16386"/>
          <p:cNvSpPr/>
          <p:nvPr/>
        </p:nvSpPr>
        <p:spPr>
          <a:xfrm>
            <a:off x="5220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图片 5" descr="360截图20201130180315940"/>
          <p:cNvPicPr/>
          <p:nvPr/>
        </p:nvPicPr>
        <p:blipFill>
          <a:blip r:embed="rId1"/>
          <a:stretch/>
        </p:blipFill>
        <p:spPr>
          <a:xfrm>
            <a:off x="985680" y="-7920"/>
            <a:ext cx="8172720" cy="69055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3755880" y="286236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单击鼠标右键，选择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以管理员身份运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文本框 17410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图片 1" descr="B23`5[WE)[6)0CY(NGW{C{7"/>
          <p:cNvPicPr/>
          <p:nvPr/>
        </p:nvPicPr>
        <p:blipFill>
          <a:blip r:embed="rId1"/>
          <a:stretch/>
        </p:blipFill>
        <p:spPr>
          <a:xfrm>
            <a:off x="993600" y="19080"/>
            <a:ext cx="811548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文本框 18434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图片 1" descr="~W50FJOZBS8W6`~[6M2C9(2"/>
          <p:cNvPicPr/>
          <p:nvPr/>
        </p:nvPicPr>
        <p:blipFill>
          <a:blip r:embed="rId1"/>
          <a:stretch/>
        </p:blipFill>
        <p:spPr>
          <a:xfrm>
            <a:off x="1009800" y="-36360"/>
            <a:ext cx="8103960" cy="68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02:33:19Z</dcterms:created>
  <dc:creator>PPT STORE</dc:creator>
  <dc:description>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ysgz</cp:lastModifiedBy>
  <dcterms:modified xsi:type="dcterms:W3CDTF">2026-01-12T16:03:23Z</dcterms:modified>
  <cp:revision>203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10422</vt:lpwstr>
  </property>
</Properties>
</file>